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A0F2-4F7C-48F4-8B63-1AE55C252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76DC-73F6-4B10-A4BE-B2197DCAC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F0C7-261C-4B4D-90CC-F666BDEE1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E191-8AB9-487D-B0D1-3A154D1C7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DF79-4A8A-49A8-AEA9-734405253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0E1D-45DF-471C-98B7-CBE320505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5CC2-CDD4-4D14-9A19-676F618A9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3FC6-877B-4E7A-BCC1-573C618B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2CE4-75B7-49A4-9188-F2E0EA8BB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E2EE-10B8-430F-BBB1-C37D4A135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69E9-D60F-4086-92A2-7D6586AA9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E9FF-5DD4-49C3-82DD-FB92AC902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FE0E-2AEA-40D0-B449-E26208AD9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3590-CE8B-4770-A4A7-6806CE91E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6731-A267-4F60-A5CD-767D9BBAB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0172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466C-EB70-4D3D-95A0-FE9F51359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B39F-655D-4842-B7EC-B24FC4091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F194-0B98-4230-BE29-12A3F9E1C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8323-1798-4357-BE8C-C17F1AC9B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3FBB-E815-4D59-86F0-ABCB3A645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ABAD-6FD4-4DC2-B73F-5C4F1ECFF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C0FA-BB45-4DA1-B1AF-CB0AA5EAF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262-92ED-47DD-8A8F-09F8EDDC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CD6-7BA6-481A-AFC9-ADD0181A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4B7-BEC0-4B9B-8753-BE0E8D51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E5F-659F-458C-931D-9BB47C74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94A-FAB7-4F8A-B219-EB884593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A82-21AD-43FD-8BEB-5DE16A99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597-0EB1-4E7C-8180-E1112FB2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B2B-AFC0-4211-A7EF-54339178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FC4-44C4-4ACB-ACB0-03C7E182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E87-0353-4157-A4C3-C94E6088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58E-79C3-4031-8DFD-EE034616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0945-3F74-462C-BE99-A086C4D9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9787-ACAB-4B13-B98F-5024EAE09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cac-parentcenter.org/" TargetMode="External"/><Relationship Id="rId2" Type="http://schemas.openxmlformats.org/officeDocument/2006/relationships/hyperlink" Target="mailto:ecac@ecacmail.org" TargetMode="External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nflict is C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62320" y="4190760"/>
            <a:ext cx="6324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Children’s Assistanc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C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rth Carolina’s Parent Training &amp; Information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m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bs01165_"/>
          <p:cNvPicPr/>
          <p:nvPr/>
        </p:nvPicPr>
        <p:blipFill>
          <a:blip r:embed="rId1"/>
          <a:stretch/>
        </p:blipFill>
        <p:spPr>
          <a:xfrm>
            <a:off x="3273480" y="1752480"/>
            <a:ext cx="2595600" cy="189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Ecac3-kids 7 Spot Color"/>
          <p:cNvPicPr/>
          <p:nvPr/>
        </p:nvPicPr>
        <p:blipFill>
          <a:blip r:embed="rId2"/>
          <a:stretch/>
        </p:blipFill>
        <p:spPr>
          <a:xfrm>
            <a:off x="685800" y="4419720"/>
            <a:ext cx="1600200" cy="1544400"/>
          </a:xfrm>
          <a:prstGeom prst="rect">
            <a:avLst/>
          </a:prstGeom>
          <a:ln w="0">
            <a:noFill/>
          </a:ln>
        </p:spPr>
      </p:pic>
      <p:sp>
        <p:nvSpPr>
          <p:cNvPr id="52" name="Line 8"/>
          <p:cNvSpPr/>
          <p:nvPr/>
        </p:nvSpPr>
        <p:spPr>
          <a:xfrm>
            <a:off x="609480" y="41148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1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of the conflict is in “the pa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not IEP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d06522_[1]"/>
          <p:cNvPicPr/>
          <p:nvPr/>
        </p:nvPicPr>
        <p:blipFill>
          <a:blip r:embed="rId1"/>
          <a:stretch/>
        </p:blipFill>
        <p:spPr>
          <a:xfrm>
            <a:off x="4784760" y="2257560"/>
            <a:ext cx="2814480" cy="2838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19040" y="5334120"/>
            <a:ext cx="830592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be resolved in order to have a                   good working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ies which exists outside of the school which are having an impact on the parent or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j0232596[1]"/>
          <p:cNvPicPr/>
          <p:nvPr/>
        </p:nvPicPr>
        <p:blipFill>
          <a:blip r:embed="rId1"/>
          <a:stretch/>
        </p:blipFill>
        <p:spPr>
          <a:xfrm>
            <a:off x="4876920" y="1676520"/>
            <a:ext cx="3598920" cy="3112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343080" y="5181480"/>
            <a:ext cx="8458200" cy="825480"/>
          </a:xfrm>
          <a:prstGeom prst="rect">
            <a:avLst/>
          </a:prstGeom>
          <a:solidFill>
            <a:srgbClr val="a574d0"/>
          </a:solidFill>
          <a:ln w="76320">
            <a:solidFill>
              <a:srgbClr val="74a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lution must include understanding of the issues and a willingness to recognize and problem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logica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s can be created or maintained by the need of huma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identif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j0294935[1]"/>
          <p:cNvPicPr/>
          <p:nvPr/>
        </p:nvPicPr>
        <p:blipFill>
          <a:blip r:embed="rId1"/>
          <a:stretch/>
        </p:blipFill>
        <p:spPr>
          <a:xfrm>
            <a:off x="5334120" y="1905120"/>
            <a:ext cx="2806560" cy="2698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4876920" y="4648320"/>
            <a:ext cx="3733560" cy="1191240"/>
          </a:xfrm>
          <a:prstGeom prst="rect">
            <a:avLst/>
          </a:prstGeom>
          <a:solidFill>
            <a:srgbClr val="ffc100"/>
          </a:solidFill>
          <a:ln w="76320">
            <a:solidFill>
              <a:srgbClr val="e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for a viable solution to help some of thes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60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Types of Negotiato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191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vers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1"/>
          <a:stretch/>
        </p:blipFill>
        <p:spPr>
          <a:xfrm>
            <a:off x="5029200" y="1608120"/>
            <a:ext cx="3048120" cy="2278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4572000" y="54849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6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36576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sarial Posi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 /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6" descr=""/>
          <p:cNvPicPr/>
          <p:nvPr/>
        </p:nvPicPr>
        <p:blipFill>
          <a:blip r:embed="rId1"/>
          <a:stretch/>
        </p:blipFill>
        <p:spPr>
          <a:xfrm>
            <a:off x="4876920" y="2158920"/>
            <a:ext cx="35352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olv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/ 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1"/>
          <a:stretch/>
        </p:blipFill>
        <p:spPr>
          <a:xfrm>
            <a:off x="4648320" y="2565360"/>
            <a:ext cx="38098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S are the real underlying needs that we want to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j0383320[1]"/>
          <p:cNvPicPr/>
          <p:nvPr/>
        </p:nvPicPr>
        <p:blipFill>
          <a:blip r:embed="rId1"/>
          <a:stretch/>
        </p:blipFill>
        <p:spPr>
          <a:xfrm>
            <a:off x="4932360" y="2257560"/>
            <a:ext cx="351468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5"/>
          <p:cNvSpPr/>
          <p:nvPr/>
        </p:nvSpPr>
        <p:spPr>
          <a:xfrm rot="20872800">
            <a:off x="533520" y="4952880"/>
            <a:ext cx="2743200" cy="581400"/>
          </a:xfrm>
          <a:prstGeom prst="rect">
            <a:avLst/>
          </a:pr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600200" y="457200"/>
            <a:ext cx="5943600" cy="520560"/>
          </a:xfrm>
          <a:prstGeom prst="rect">
            <a:avLst/>
          </a:pr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S are based on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762120" y="2057400"/>
            <a:ext cx="76197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re often based on                     causes of the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4572000" y="1143000"/>
            <a:ext cx="0" cy="685800"/>
          </a:xfrm>
          <a:prstGeom prst="line">
            <a:avLst/>
          </a:prstGeom>
          <a:ln w="7632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4572000" y="327672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7"/>
          <p:cNvSpPr/>
          <p:nvPr/>
        </p:nvSpPr>
        <p:spPr>
          <a:xfrm flipH="1">
            <a:off x="3575880" y="3296520"/>
            <a:ext cx="581040" cy="566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4953960" y="3309840"/>
            <a:ext cx="680400" cy="552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 rot="21559800">
            <a:off x="3772080" y="4677840"/>
            <a:ext cx="1600200" cy="581400"/>
          </a:xfrm>
          <a:prstGeom prst="rect">
            <a:avLst/>
          </a:prstGeom>
          <a:solidFill>
            <a:srgbClr val="a57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 rot="21265800">
            <a:off x="380520" y="3733920"/>
            <a:ext cx="2819520" cy="581400"/>
          </a:xfrm>
          <a:prstGeom prst="rect">
            <a:avLst/>
          </a:prstGeom>
          <a:solidFill>
            <a:srgbClr val="6dc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5562720" y="6019920"/>
            <a:ext cx="22096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 rot="336600">
            <a:off x="6095520" y="3657600"/>
            <a:ext cx="2667240" cy="581400"/>
          </a:xfrm>
          <a:prstGeom prst="rect">
            <a:avLst/>
          </a:pr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 rot="598800">
            <a:off x="5866920" y="4952520"/>
            <a:ext cx="2895840" cy="581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1066680" y="6019920"/>
            <a:ext cx="35053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 Elements of Negoti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(BAT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tima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638680" y="2286000"/>
            <a:ext cx="2362320" cy="2974320"/>
          </a:xfrm>
          <a:prstGeom prst="rect">
            <a:avLst/>
          </a:prstGeom>
          <a:solidFill>
            <a:srgbClr val="8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8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 Elements of Negoti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rns, wants, needs, hopes and fears that underlie and motivate the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ways of dealing with th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happen without                                           an agreement (BAT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81952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nflict is C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 occurs when one party decides that the way things are going is not okay and seeks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ut that change is not agreed to                by the other part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s01165_"/>
          <p:cNvPicPr/>
          <p:nvPr/>
        </p:nvPicPr>
        <p:blipFill>
          <a:blip r:embed="rId1"/>
          <a:stretch/>
        </p:blipFill>
        <p:spPr>
          <a:xfrm>
            <a:off x="3273480" y="2057400"/>
            <a:ext cx="25956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8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 Elements of Negoti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timacy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an agreement f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meas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s of what each party is                    willing to do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ttern of interaction in and                     outside of the IEP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15523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85680" rIns="8568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an you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reach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1400" bIns="41400" anchor="t">
            <a:normAutofit fontScale="97000"/>
          </a:bodyPr>
          <a:p>
            <a:pPr marL="558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in Offi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7 Barra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ites 102/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son, NC  280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0-962-6817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ll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4-892-132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le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66-740-4135 toll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h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66-545-5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cac-parentcenter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cac@ecacmail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6354720" y="365040"/>
            <a:ext cx="2657520" cy="1895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4"/>
          <a:stretch/>
        </p:blipFill>
        <p:spPr>
          <a:xfrm>
            <a:off x="5164200" y="800280"/>
            <a:ext cx="174456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take                 “ two-to-tango”        but it only takes      one party to       declare a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j0137355[1]"/>
          <p:cNvPicPr/>
          <p:nvPr/>
        </p:nvPicPr>
        <p:blipFill>
          <a:blip r:embed="rId1"/>
          <a:stretch/>
        </p:blipFill>
        <p:spPr>
          <a:xfrm>
            <a:off x="5410080" y="1557360"/>
            <a:ext cx="2960640" cy="374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in00011_"/>
          <p:cNvPicPr/>
          <p:nvPr/>
        </p:nvPicPr>
        <p:blipFill>
          <a:blip r:embed="rId2"/>
          <a:stretch/>
        </p:blipFill>
        <p:spPr>
          <a:xfrm>
            <a:off x="1752480" y="4038480"/>
            <a:ext cx="1625760" cy="1827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3"/>
          <p:cNvSpPr/>
          <p:nvPr/>
        </p:nvSpPr>
        <p:spPr>
          <a:xfrm>
            <a:off x="6781680" y="39625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 Types of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181480" y="2506680"/>
            <a:ext cx="2362320" cy="2974320"/>
          </a:xfrm>
          <a:prstGeom prst="rect">
            <a:avLst/>
          </a:pr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j0193348[1]"/>
          <p:cNvPicPr/>
          <p:nvPr/>
        </p:nvPicPr>
        <p:blipFill>
          <a:blip r:embed="rId1"/>
          <a:stretch/>
        </p:blipFill>
        <p:spPr>
          <a:xfrm>
            <a:off x="5367240" y="4713120"/>
            <a:ext cx="2743200" cy="1835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Caus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nflicts will have one or more of the elements as root caus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d19874_[1]"/>
          <p:cNvPicPr/>
          <p:nvPr/>
        </p:nvPicPr>
        <p:blipFill>
          <a:blip r:embed="rId2"/>
          <a:stretch/>
        </p:blipFill>
        <p:spPr>
          <a:xfrm>
            <a:off x="5410080" y="685800"/>
            <a:ext cx="276552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304920" y="4724280"/>
            <a:ext cx="4572000" cy="947160"/>
          </a:xfrm>
          <a:prstGeom prst="rect">
            <a:avLst/>
          </a:prstGeom>
          <a:solidFill>
            <a:srgbClr val="8b8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olution to conflict will match the c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over data or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data conflicts have data or factual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bs01177_[1]"/>
          <p:cNvPicPr/>
          <p:nvPr/>
        </p:nvPicPr>
        <p:blipFill>
          <a:blip r:embed="rId1"/>
          <a:stretch/>
        </p:blipFill>
        <p:spPr>
          <a:xfrm>
            <a:off x="1600200" y="4114800"/>
            <a:ext cx="2666880" cy="2184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j0309604"/>
          <p:cNvPicPr/>
          <p:nvPr/>
        </p:nvPicPr>
        <p:blipFill>
          <a:blip r:embed="rId2"/>
          <a:stretch/>
        </p:blipFill>
        <p:spPr>
          <a:xfrm>
            <a:off x="5964120" y="1828800"/>
            <a:ext cx="2284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8145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s arise over a relationship or a communication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often be a “hidden” reason for   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0137125[1]"/>
          <p:cNvPicPr/>
          <p:nvPr/>
        </p:nvPicPr>
        <p:blipFill>
          <a:blip r:embed="rId1"/>
          <a:stretch/>
        </p:blipFill>
        <p:spPr>
          <a:xfrm>
            <a:off x="4419720" y="2743200"/>
            <a:ext cx="4101840" cy="2281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654120" y="5562720"/>
            <a:ext cx="784836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hip issues must be addres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267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ived or actual incompatibilities in their belief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differences in expectations become a values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bd06553_[1]"/>
          <p:cNvPicPr/>
          <p:nvPr/>
        </p:nvPicPr>
        <p:blipFill>
          <a:blip r:embed="rId1"/>
          <a:stretch/>
        </p:blipFill>
        <p:spPr>
          <a:xfrm>
            <a:off x="5562720" y="2127240"/>
            <a:ext cx="2733480" cy="26035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033560" y="5562720"/>
            <a:ext cx="7086600" cy="581400"/>
          </a:xfrm>
          <a:prstGeom prst="rect">
            <a:avLst/>
          </a:prstGeom>
          <a:solidFill>
            <a:srgbClr val="4a3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have a values based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s over real or perceived scarcity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versus “Promising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j0334336[1]"/>
          <p:cNvPicPr/>
          <p:nvPr/>
        </p:nvPicPr>
        <p:blipFill>
          <a:blip r:embed="rId1"/>
          <a:stretch/>
        </p:blipFill>
        <p:spPr>
          <a:xfrm>
            <a:off x="4800600" y="2666880"/>
            <a:ext cx="4038480" cy="2062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762120" y="5562720"/>
            <a:ext cx="7619760" cy="581400"/>
          </a:xfrm>
          <a:prstGeom prst="rect">
            <a:avLst/>
          </a:prstGeom>
          <a:solidFill>
            <a:srgbClr val="ced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lexibility and creativity to re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9:09:25Z</dcterms:created>
  <dc:creator>Susan Suda</dc:creator>
  <dc:description/>
  <dc:language>en-US</dc:language>
  <cp:lastModifiedBy>dtillman</cp:lastModifiedBy>
  <dcterms:modified xsi:type="dcterms:W3CDTF">2012-02-23T19:22:47Z</dcterms:modified>
  <cp:revision>35</cp:revision>
  <dc:subject/>
  <dc:title>How conflict is created</dc:title>
</cp:coreProperties>
</file>